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8023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8023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7569000" cy="5229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1280" indent="-25128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21360" indent="-2667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2432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82692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9298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9298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9298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五章   演示文稿软件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owerPoint 200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2640" y="1684440"/>
            <a:ext cx="7191360" cy="42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5.1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创建演示文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5.2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编辑演示文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5.3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演示文稿的播放与打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3004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05720" cy="4470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81440" y="59086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完成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"/>
          <p:cNvSpPr/>
          <p:nvPr/>
        </p:nvSpPr>
        <p:spPr>
          <a:xfrm>
            <a:off x="307656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3814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24080" y="5756400"/>
            <a:ext cx="30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7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演示文稿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22416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371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71600" y="57150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8  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幻灯片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1.3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的打开与保存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演示文稿的打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演示文稿的保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2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演示文稿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5.2.1   建立第一个演示文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.2.2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演示文稿的编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7045200" y="6362640"/>
            <a:ext cx="1260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2.1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第一个演示文稿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305280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410440" cy="3900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50840" y="568008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9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编辑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347652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562720" cy="452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8640" y="59086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样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1905120"/>
          <a:ext cx="754380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54380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645360" y="54864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2.2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的编辑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374840"/>
            <a:ext cx="716292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文本内容的编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对已初步建立的幻灯片的文本内容进行诸如增加、删除、复制、移动以及对字体、段落等修饰工作，可用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ord 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相同的方法进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幻灯片的编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插入多媒体对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幻灯片的编辑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视图的切换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插入新幻灯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控制幻灯片外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学习目标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建演示文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编辑演示文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演示文稿的播放与打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045200" y="6362640"/>
            <a:ext cx="1260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视图的切换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纲视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幻灯片视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普通视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幻灯片浏览视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幻灯片放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插入新幻灯片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需要向已有的演示文稿中添加新的幻灯片时，应使用以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插入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幻灯片”命令，可将与当前版式相同的空白幻灯片插入到当前位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定某张或多张幻灯片，选择“编辑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作副本” 命令，或选择“插入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副本” 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定某张或多张幻灯片，使用“复制”以及“粘贴”也可实现新幻灯片的插入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控制幻灯片外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母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配色方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应用设计模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2962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096240" cy="456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33680" y="586728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2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母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230040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676520"/>
          <a:ext cx="762012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65920" y="52578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浏览视图中查看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52440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867280" cy="466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35200" y="575640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4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眉页脚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4515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19120" y="5638680"/>
            <a:ext cx="28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5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向母版中插入图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33004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19920" cy="4508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07320" y="586728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6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设计模板”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插入多媒体对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19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剪贴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来自文件的图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自选图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艺术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表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图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声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电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32958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29400" cy="4378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76520" y="57150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7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图片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1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演示文稿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5.1.1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PowerPoint 2000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的启动和退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5.1.2   创建一个演示文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5.1.3   演示文稿的打开与保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7045200" y="6362640"/>
            <a:ext cx="1260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32716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400800" cy="4806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50080" y="575640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8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自选图形和艺术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33433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87960" y="571500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9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表格和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32814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486400" cy="4595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97280" y="571500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0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影片和声音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3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的播放与打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.3.1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演示文稿的播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.3.2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演示文稿中的动画效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.3.3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演示文稿中的超级链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.3.4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打印演示文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7045200" y="6362640"/>
            <a:ext cx="1260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3.1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的播放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幻灯片的放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设置放映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隐藏幻灯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3528720" cy="5181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04040" y="921240"/>
            <a:ext cx="54612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幻灯片放映的快捷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31194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3440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12760" y="5562720"/>
            <a:ext cx="31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2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放映方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3.2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中的动画效果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设置幻灯片的动画效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“预设动画”设置动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“自定义动画”设置动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幻灯片间切换的动画效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30243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552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52720" y="57913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预设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80" name=""/>
          <p:cNvSpPr/>
          <p:nvPr/>
        </p:nvSpPr>
        <p:spPr>
          <a:xfrm>
            <a:off x="35244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791320" cy="4527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70960" y="5791320"/>
            <a:ext cx="31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4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切换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1.1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Point 2000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启动和退出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"/>
          <p:cNvSpPr/>
          <p:nvPr/>
        </p:nvSpPr>
        <p:spPr>
          <a:xfrm>
            <a:off x="367668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811680" cy="4419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1240" y="2199960"/>
            <a:ext cx="546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3.3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中的超级链接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使用“超级链接”命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起点（现为实例第二张幻灯片中的“计算机网络概述”），选择“插入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|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级链接”命令，或单击鼠标右键，在弹出的快捷菜单中单击“超级链接”命令，即出现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25—5.2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使用动作按钮，也可方便地创建超级链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28-5.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310500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49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65040" y="5943600"/>
            <a:ext cx="31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5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超级链接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347184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10280" cy="5037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67480" y="601992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6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级链接到文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95" name=""/>
          <p:cNvSpPr/>
          <p:nvPr/>
        </p:nvSpPr>
        <p:spPr>
          <a:xfrm>
            <a:off x="34718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476760" cy="4738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984400" y="58672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7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超级链接后的幻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32385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3808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65160" y="5410080"/>
            <a:ext cx="38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级链接到幻灯片” 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03" name=""/>
          <p:cNvSpPr/>
          <p:nvPr/>
        </p:nvSpPr>
        <p:spPr>
          <a:xfrm>
            <a:off x="356724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95920" cy="518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057400" y="5943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9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作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07" name=""/>
          <p:cNvSpPr/>
          <p:nvPr/>
        </p:nvSpPr>
        <p:spPr>
          <a:xfrm>
            <a:off x="345744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98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12732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3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的两个动作按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3.4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演示文稿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开演示文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文件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设置”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进行页面设置，如：幻灯片大小、幻灯片编号起始值、方向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文件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”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弹出的“打印”对话框中进行打印选项设置，如：打印范围、打印内容和打印份数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以上各项都做完后，单击“确定”按钮，就可进行打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"/>
          <p:cNvSpPr/>
          <p:nvPr/>
        </p:nvSpPr>
        <p:spPr>
          <a:xfrm>
            <a:off x="6959520" y="6400800"/>
            <a:ext cx="1270080" cy="368280"/>
          </a:xfrm>
          <a:prstGeom prst="rect">
            <a:avLst/>
          </a:prstGeom>
          <a:solidFill>
            <a:srgbClr val="dafefb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361960" y="2819520"/>
            <a:ext cx="51051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1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章到此结束。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谢谢您 的光临！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">
            <a:hlinkClick r:id="" action="ppaction://hlinkshowjump?jump=endshow"/>
          </p:cNvPr>
          <p:cNvSpPr/>
          <p:nvPr/>
        </p:nvSpPr>
        <p:spPr>
          <a:xfrm>
            <a:off x="6705720" y="6343560"/>
            <a:ext cx="1676160" cy="398880"/>
          </a:xfrm>
          <a:prstGeom prst="rect">
            <a:avLst/>
          </a:prstGeom>
          <a:solidFill>
            <a:srgbClr val="ccffff"/>
          </a:solidFill>
          <a:ln cap="rnd" w="38160">
            <a:solidFill>
              <a:srgbClr val="99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3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ff"/>
                </a:solidFill>
                <a:latin typeface="Matura MT Script Capitals"/>
                <a:ea typeface="宋体"/>
              </a:rPr>
              <a:t>Thank you very much!</a:t>
            </a:r>
            <a:endParaRPr b="1" lang="en-US" sz="5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1.2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一个演示文稿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内容提示向导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（如图5.2—5.6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设计模板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（如图5.7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空演示文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（如图5.8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33051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30800" y="5715000"/>
            <a:ext cx="24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33004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81680" cy="452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69960" y="571500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3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类型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34718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4411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91920" y="590868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样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337644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411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18800" y="59086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文稿选项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23:04:21Z</dcterms:created>
  <dc:creator>Andy Sweet</dc:creator>
  <dc:description/>
  <dc:language>en-US</dc:language>
  <cp:lastModifiedBy>ya6</cp:lastModifiedBy>
  <dcterms:modified xsi:type="dcterms:W3CDTF">2003-02-28T08:46:07Z</dcterms:modified>
  <cp:revision>36</cp:revision>
  <dc:subject/>
  <dc:title>Introduction</dc:title>
</cp:coreProperties>
</file>